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876-1558-4AFD-8C9F-9AD034CC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A11-012A-4B57-89C0-D2036B30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AE3-FC84-48F7-B4C5-28DA42F3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877-AAAD-4694-89DD-E6EE8CED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892-1093-4B16-9673-592D7DC7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D9D-CC27-4C5A-A8AC-BF675203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34B-CE03-435F-89B4-4B4C90AB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980-FFCE-48A4-A854-5B5EA277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33C-7DE3-4AFA-BB23-CB19D049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F8E-F7B9-4D81-BDA5-175F02FB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9A2-E9D2-45FC-BA24-85B28225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CF4-FA5B-498A-82EE-1C1483F4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7559-8DED-48C4-A0F9-0F493BC2F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iqHKFMPhHw" TargetMode="External"/><Relationship Id="rId2" Type="http://schemas.openxmlformats.org/officeDocument/2006/relationships/hyperlink" Target="http://www.youtube.com/watch?v=tiqHKFMPhHw" TargetMode="External"/><Relationship Id="rId3" Type="http://schemas.openxmlformats.org/officeDocument/2006/relationships/hyperlink" Target="http://www.youtube.com/watch?v=tiqHKFMPhHw" TargetMode="External"/><Relationship Id="rId4" Type="http://schemas.openxmlformats.org/officeDocument/2006/relationships/hyperlink" Target="http://www.youtube.com/watch?v=tiqHKFMPhHw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beahfound.org/Beah_Foundation/Home.html" TargetMode="External"/><Relationship Id="rId3" Type="http://schemas.openxmlformats.org/officeDocument/2006/relationships/hyperlink" Target="http://www.beahfound.org/Beah_Foundation/Home.html" TargetMode="External"/><Relationship Id="rId4" Type="http://schemas.openxmlformats.org/officeDocument/2006/relationships/hyperlink" Target="http://www.beahfound.org/Beah_Foundation/Home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Long Way Gone: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moirs of a Boy Sold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1200" y="1981080"/>
            <a:ext cx="3051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hmael Be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Nov 23, 1980 in Sierra Le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,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Soldier at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cued, 199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ted from Oberlin College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13280" y="1981080"/>
            <a:ext cx="3279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17720" y="1981080"/>
            <a:ext cx="530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 in 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e Forgotten War: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he Sierra Leon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hmael Beah Fou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44340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3640" y="571500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ahfound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22:01:46Z</dcterms:created>
  <dc:creator>Michael Farrell</dc:creator>
  <dc:description/>
  <dc:language>en-US</dc:language>
  <cp:lastModifiedBy>Michael Farrell</cp:lastModifiedBy>
  <dcterms:modified xsi:type="dcterms:W3CDTF">2011-01-09T01:18:14Z</dcterms:modified>
  <cp:revision>3</cp:revision>
  <dc:subject/>
  <dc:title>A Long Way Gone:  Memoirs of a Boy Soldier</dc:title>
</cp:coreProperties>
</file>